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94D4-37D9-4B89-85D9-05BED02C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50E-4B66-4001-BA25-4289BFB7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CD38-E542-4A17-9CEE-67E19BEE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7C57-668C-41E3-8DDA-4891DDCE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E78-DEB5-4CE2-89F2-A4267A0F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5A5E-E7BD-463A-BCEF-A18C94FC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7F3E-2F46-4EA4-A9DD-5BA11AE7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0022-EE18-4B7F-A90F-AF6B5C53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03B1-7606-416D-B183-FB88FD74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7E9B-F460-4BA3-A884-A6189ACC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4F1-E20D-44D7-81D7-CE2E5733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A67D-F4B9-4443-8F1C-F1BB7F9F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1CC1-C2D6-4159-9E3E-3E1A4F685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Sa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little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Sa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tap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ma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Ta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mats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4:21:27Z</dcterms:created>
  <dc:creator> </dc:creator>
  <dc:description/>
  <dc:language>en-US</dc:language>
  <cp:lastModifiedBy> </cp:lastModifiedBy>
  <dcterms:modified xsi:type="dcterms:W3CDTF">2007-04-17T14:27:23Z</dcterms:modified>
  <cp:revision>2</cp:revision>
  <dc:subject/>
  <dc:title>mat</dc:title>
</cp:coreProperties>
</file>